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FDA-23F4-4C82-9D26-58D67B5E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243-7715-4C92-A99C-D37778F6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22E-F98A-4D9F-93BE-7B816B22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C29-E2B4-4A91-9131-24F19B7E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F8608-F819-46C8-8992-F3486633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1306-F0F2-44F9-B984-70EFF06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62F41-7D91-493D-8334-045E35B4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2F1ED-F1A0-4C8E-8DDD-ADE3088C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A9F0-7385-4E1E-8F11-7091E8CB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1AF7D-54C8-4E69-B21C-10007D0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C95AC-8041-4388-98D6-CB561A1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DF0-8C18-4281-8389-5D3E1146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9083-E6A5-4A04-BBE2-AD8216F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D1A4-9023-4031-B409-0CB13CE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5B83A-B853-48BE-90C5-AC27DA4D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9528B-C3BC-456E-96CA-52A9063B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D1D65-2218-4827-8011-E09E10F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336D-A064-4A7F-89AB-55C97E17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D00A-AF15-42BA-8BAD-76877664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A6B6-4393-48CD-BB28-1002236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6301-F93E-44F5-9F5A-99B1837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ED68-1D8A-4501-8974-F91FF381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F0C-6883-46D0-8C63-B74223A7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1855-B14C-4861-B0C1-887A6842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76CC-AFF1-45BA-9703-6D2619FC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4CE1-C216-4B2F-A983-DC1E593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53F9-1A04-45F9-BFF5-4EFB9AA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F8F1-23D7-43C2-8D9A-5F3B4FCD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9382-EB6C-42A2-8175-CC2AA38F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531B-9115-4182-8E2C-D1823842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72C82-625F-4917-850A-7997B9D6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1CDC0-69F7-420C-8226-5FB60CDE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DBD84-FB4B-4066-8435-157959F3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123-FDBC-4B20-88E0-A363681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1B23C-A2D2-4080-8FE8-F3413D9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3FB35-10A9-42DE-8BE6-E38259A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962AD-82E1-4B6B-966A-32D9FCF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904BE-6F55-4082-AEAD-85DEBA2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0D217-C8C3-4A3E-9A4D-3779CD15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0F5E7-446D-4E61-A8FA-7D4BE96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A9E85-2C67-49E0-9203-620CBA4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BC62C-D029-4B50-AA22-36BEC775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B1EAF-7C9E-4280-B45C-F5D2216A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FA3-31DE-4547-A4D8-AE82C367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A0-C1F7-454F-99D3-2F0079B0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703-C0EA-4ABE-B053-7C8F118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479-93BF-4520-9F36-F36507DD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D48-00D9-4DFB-8DB0-22896AE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563-B12A-4616-84A1-F270EAD5B19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7976-1392-4281-9A61-DF371B64E97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B8AF-7867-42ED-B04C-97BC9DB60A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52E-7D20-485F-96D4-A52F669B166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Как физика объясняет факты из повседневной жизни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За счет чего вылетает пулька из дула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 – про давление, создаваемое воздухом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Раздел физики, изучающий данное явление называется </a:t>
            </a:r>
            <a:r>
              <a:rPr b="0" lang="ru-RU" sz="3700" spc="-1" strike="noStrike">
                <a:solidFill>
                  <a:srgbClr val="f3a447"/>
                </a:solidFill>
                <a:latin typeface="Constantia"/>
              </a:rPr>
              <a:t>Молекулярная физика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выглядит пневматическая винтовка?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обычная винтовк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ружь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пулемет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 гранатомет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h_1172573789.jpg"/>
          <p:cNvPicPr/>
          <p:nvPr/>
        </p:nvPicPr>
        <p:blipFill>
          <a:blip r:embed="rId1"/>
          <a:stretch/>
        </p:blipFill>
        <p:spPr>
          <a:xfrm>
            <a:off x="719280" y="1584360"/>
            <a:ext cx="2815920" cy="325584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mp512-11.jpg"/>
          <p:cNvPicPr/>
          <p:nvPr/>
        </p:nvPicPr>
        <p:blipFill>
          <a:blip r:embed="rId3"/>
          <a:stretch/>
        </p:blipFill>
        <p:spPr>
          <a:xfrm>
            <a:off x="4432320" y="1584360"/>
            <a:ext cx="3468600" cy="52070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213170.jpg"/>
          <p:cNvPicPr/>
          <p:nvPr/>
        </p:nvPicPr>
        <p:blipFill>
          <a:blip r:embed="rId4"/>
          <a:stretch/>
        </p:blipFill>
        <p:spPr>
          <a:xfrm>
            <a:off x="3718080" y="4516560"/>
            <a:ext cx="4194000" cy="357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5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Какие существуют виды пневматических винтовок?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Прост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еобычн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Железн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здушны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Текст 1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Заголовок 4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онна ли эта развлекательная стрельб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помогает стрелкам точно попадать по мишеня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м мешает стрелят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8589960" cy="135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а уроках физики мы учим теории и законы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 иногда кажется, что эти знания не имеют никакого отношения к нашей жизни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авайте попробуем объяснить некоторые общеизвестные факты знаниями из физ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 для примера возьмем людей, которые увлекаются спортивно-развлекательной стрельбой. Но не самих людей а то, из чего они стреляют. То есть пневматическую винтовк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чего применяют пневматическую винтов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какой траектории летит пульк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 счет чего пулька вылетает из дул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выглядит пневматическая винтовк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существуют виды пневматических винтово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328680" y="23760"/>
            <a:ext cx="8589960" cy="135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чего применяют пневматическую винтовку?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развлекательной стрельбы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соревнований по стрельбе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Для совершенствования навыка стрельбы (впоследствии переходу на огнестрельное охотничье оружие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Для чего применяют пневматическую винтовку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Её применяют во всех 3-х случаях, описанных выше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какой траектории летит пулька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прямой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кривой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По круговой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По какой траектории летит пулька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Вопрос – про движение тела брошенного под углом к горизонту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Раздел физики, изучающий данное явление называется </a:t>
            </a:r>
            <a:r>
              <a:rPr b="0" lang="ru-RU" sz="3700" spc="-1" strike="noStrike">
                <a:solidFill>
                  <a:srgbClr val="f3a447"/>
                </a:solidFill>
                <a:latin typeface="Constantia"/>
              </a:rPr>
              <a:t>Кинематика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06_00-1.jpg"/>
          <p:cNvPicPr/>
          <p:nvPr/>
        </p:nvPicPr>
        <p:blipFill>
          <a:blip r:embed="rId2"/>
          <a:stretch/>
        </p:blipFill>
        <p:spPr>
          <a:xfrm>
            <a:off x="360360" y="1731960"/>
            <a:ext cx="8350200" cy="705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Вопрос: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За счет чего пулька вылетает из дула?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Наши гипотезы: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За счет выталкивания пульки воздухом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За счет выкидывания пульки винтовкой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nstantia"/>
              </a:rPr>
              <a:t>Из за звука от выстрела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4:33:06Z</dcterms:created>
  <dc:creator>26064</dc:creator>
  <dc:description/>
  <dc:language>en-US</dc:language>
  <cp:lastModifiedBy>26064</cp:lastModifiedBy>
  <dcterms:modified xsi:type="dcterms:W3CDTF">2010-05-15T04:37:30Z</dcterms:modified>
  <cp:revision>14</cp:revision>
  <dc:subject/>
  <dc:title>Попасть в «яблочко»</dc:title>
</cp:coreProperties>
</file>